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BE47-7A8B-497B-8AF8-17D5432C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9745-D493-44CD-A455-3B772AC8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ACA-2516-48C0-B93D-25AC112D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BF3-EEE7-4071-A2EF-38783731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0B79-023E-48EB-AC29-715F8EA8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992-660F-49F3-976A-F4593CAA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4C3-CA1A-4DAE-B435-3E73E82E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90C-7B19-48A2-8F97-EF5E5FFF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6B4-3FC6-45BD-8CD2-8CA4C1BC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B31-5557-4ADB-B306-3F37FDC0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E93-9B60-4F18-88C5-423FAC34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FBC-6135-48B3-B4C8-B4326514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E3C7-AA1D-45E4-8EBD-5BB511DF78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../233/&#29233;.sw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0"/>
            <a:ext cx="6248520" cy="5638680"/>
          </a:xfrm>
          <a:custGeom>
            <a:avLst/>
            <a:gdLst>
              <a:gd name="textAreaLeft" fmla="*/ 1468440 w 6248520"/>
              <a:gd name="textAreaRight" fmla="*/ 4775760 w 6248520"/>
              <a:gd name="textAreaTop" fmla="*/ 662760 h 5638680"/>
              <a:gd name="textAreaBottom" fmla="*/ 3537000 h 5638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-1944720" y="2249640"/>
            <a:ext cx="6477120" cy="1977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009999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bcbcb"/>
                  </a:outerShdw>
                </a:effectLst>
                <a:latin typeface="楷体_GB2312"/>
              </a:rPr>
              <a:t>欢迎各位老师家长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ccffff"/>
                  </a:gs>
                  <a:gs pos="100000">
                    <a:srgbClr val="009999"/>
                  </a:gs>
                </a:gsLst>
                <a:lin ang="13500000"/>
              </a:gradFill>
              <a:effectLst>
                <a:outerShdw dist="53966" dir="2700000" blurRad="0" rotWithShape="0">
                  <a:srgbClr val="cbcbcb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00400" y="380880"/>
            <a:ext cx="49528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唤起寸草心</a:t>
            </a:r>
            <a:endParaRPr b="0" lang="en-US" sz="96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为报三春晖</a:t>
            </a:r>
            <a:endParaRPr b="0" lang="en-US" sz="96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16360" y="4292640"/>
            <a:ext cx="2743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初二（</a:t>
            </a:r>
            <a:r>
              <a:rPr b="0" lang="en-US" sz="5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33</a:t>
            </a:r>
            <a:r>
              <a:rPr b="0" lang="zh-CN" sz="5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）班</a:t>
            </a:r>
            <a:endParaRPr b="0" lang="en-US" sz="5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 </a:t>
            </a:r>
            <a:r>
              <a:rPr b="0" lang="zh-CN" sz="5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主题班会</a:t>
            </a:r>
            <a:endParaRPr b="0" lang="en-US" sz="5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5" name=""/>
          <p:cNvSpPr txBox="1"/>
          <p:nvPr/>
        </p:nvSpPr>
        <p:spPr>
          <a:xfrm rot="5400000">
            <a:off x="951840" y="4152600"/>
            <a:ext cx="373392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楷体_GB2312"/>
              </a:rPr>
              <a:t>莅临指导</a:t>
            </a:r>
            <a:endParaRPr b="0" lang="en-US" sz="9600" spc="1" strike="noStrike">
              <a:ln w="0">
                <a:noFill/>
              </a:ln>
              <a:solidFill>
                <a:srgbClr val="99cc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892080"/>
            <a:ext cx="9144000" cy="7750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191120" y="4191120"/>
            <a:ext cx="4038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对不起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92280"/>
            <a:ext cx="456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如果你曾经伤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过爸爸妈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今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让我们勇敢的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爸爸妈妈说一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 rot="1038600">
            <a:off x="2590560" y="228600"/>
            <a:ext cx="4114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真情告白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3276720"/>
            <a:ext cx="7696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Times New Roman"/>
                <a:ea typeface="隶书"/>
              </a:rPr>
              <a:t>父母为我们付出了那么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Times New Roman"/>
                <a:ea typeface="隶书"/>
              </a:rPr>
              <a:t>我们怎可忘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Times New Roman"/>
                <a:ea typeface="隶书"/>
              </a:rPr>
              <a:t>我们该怎样孝敬他们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14400" y="0"/>
            <a:ext cx="9144000" cy="73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0"/>
                </a:solidFill>
                <a:latin typeface="Times New Roman"/>
                <a:ea typeface="楷体_GB2312"/>
              </a:rPr>
              <a:t>清晨起，问早安，上学去，说再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0"/>
                </a:solidFill>
                <a:latin typeface="Times New Roman"/>
                <a:ea typeface="楷体_GB2312"/>
              </a:rPr>
              <a:t>回到家，道声好，要外出，须留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0"/>
                </a:solidFill>
                <a:latin typeface="Times New Roman"/>
                <a:ea typeface="楷体_GB2312"/>
              </a:rPr>
              <a:t>父母钱，莫乱花，知劳苦，懂节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0"/>
                </a:solidFill>
                <a:latin typeface="Times New Roman"/>
                <a:ea typeface="楷体_GB2312"/>
              </a:rPr>
              <a:t>父母呼，要回应，大小事，行勿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0"/>
                </a:solidFill>
                <a:latin typeface="Times New Roman"/>
                <a:ea typeface="楷体_GB2312"/>
              </a:rPr>
              <a:t>父母归，笑相迎，倒茶水，尽孝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0"/>
                </a:solidFill>
                <a:latin typeface="Times New Roman"/>
                <a:ea typeface="楷体_GB2312"/>
              </a:rPr>
              <a:t>父母烦，莫添乱，解忧愁，逗开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0"/>
                </a:solidFill>
                <a:latin typeface="Times New Roman"/>
                <a:ea typeface="楷体_GB2312"/>
              </a:rPr>
              <a:t>父母忙，己莫闲，伸出手，帮一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0"/>
                </a:solidFill>
                <a:latin typeface="Times New Roman"/>
                <a:ea typeface="楷体_GB2312"/>
              </a:rPr>
              <a:t>父母累，捶捶背，劝早息，别打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0"/>
                </a:solidFill>
                <a:latin typeface="Times New Roman"/>
                <a:ea typeface="楷体_GB2312"/>
              </a:rPr>
              <a:t>父母病，勤侍奉，病床前，多问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0"/>
                </a:solidFill>
                <a:latin typeface="Times New Roman"/>
                <a:ea typeface="楷体_GB2312"/>
              </a:rPr>
              <a:t>父母训，认真听，有过错，须改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0"/>
                </a:solidFill>
                <a:latin typeface="Times New Roman"/>
                <a:ea typeface="楷体_GB2312"/>
              </a:rPr>
              <a:t>父母愿，当力行，己成才，方报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0"/>
                </a:solidFill>
                <a:latin typeface="Times New Roman"/>
                <a:ea typeface="楷体_GB2312"/>
              </a:rPr>
              <a:t>敬父母，尊长辈，扬美德，好学生</a:t>
            </a:r>
            <a:r>
              <a:rPr b="0" lang="zh-CN" sz="4000" spc="-1" strike="noStrike">
                <a:solidFill>
                  <a:srgbClr val="00008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914400" y="0"/>
            <a:ext cx="10310760" cy="7161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26668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亲爱的爸爸妈妈，我们向你们承诺：在思想上让你们安心，在学习上让你们放心，在生活上让你们省心，我们要不负天下父母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33720" y="457200"/>
            <a:ext cx="4952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承诺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7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真的爱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（无法可修饰的一对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带出温暖永远在背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纵使罗嗦始终关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不懂珍惜太内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沉醉于音阶她不赞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母亲的爱却永远未退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决心冲开心中挣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亲恩终可报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春风化雨暖透我的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一生眷顾无言地送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81480" y="762120"/>
            <a:ext cx="4724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是你多么温馨的目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教我坚毅望着前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叮嘱我跌倒不应放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没法解释怎可报尽亲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爱意宽大是无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请准我说声真的爱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开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仍记起温馨的一对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始终给我照顾未变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理想今天终于等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宋体"/>
              </a:rPr>
              <a:t>分享光辉盼做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6400800"/>
            <a:ext cx="190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286000" y="3505320"/>
            <a:ext cx="62485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一生平安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457200"/>
            <a:ext cx="7315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愿天下父母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80880"/>
            <a:ext cx="8763120" cy="56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初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唤起寸草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为报三春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主题班会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到此结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2120" y="5410080"/>
            <a:ext cx="685800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谢谢各位老师家长莅临指导</a:t>
            </a:r>
            <a:endParaRPr b="0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8686800" cy="5791320"/>
          </a:xfrm>
          <a:custGeom>
            <a:avLst/>
            <a:gdLst>
              <a:gd name="textAreaLeft" fmla="*/ 1485720 w 8686800"/>
              <a:gd name="textAreaRight" fmla="*/ 7201080 w 8686800"/>
              <a:gd name="textAreaTop" fmla="*/ 326520 h 5791320"/>
              <a:gd name="textAreaBottom" fmla="*/ 5791680 h 579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720" y="0"/>
                </a:lnTo>
                <a:arcTo wR="675" hR="305" stAng="16200000" swAng="5400000"/>
                <a:lnTo>
                  <a:pt x="6395" y="1219"/>
                </a:lnTo>
                <a:lnTo>
                  <a:pt x="15205" y="1219"/>
                </a:lnTo>
                <a:lnTo>
                  <a:pt x="15205" y="305"/>
                </a:lnTo>
                <a:arcTo wR="675" hR="305" stAng="10800000" swAng="5400000"/>
                <a:lnTo>
                  <a:pt x="21600" y="0"/>
                </a:lnTo>
                <a:lnTo>
                  <a:pt x="18900" y="10191"/>
                </a:lnTo>
                <a:lnTo>
                  <a:pt x="21600" y="20381"/>
                </a:lnTo>
                <a:lnTo>
                  <a:pt x="17905" y="20381"/>
                </a:lnTo>
                <a:lnTo>
                  <a:pt x="17905" y="21295"/>
                </a:lnTo>
                <a:arcTo wR="675" hR="305" stAng="0" swAng="5400000"/>
                <a:lnTo>
                  <a:pt x="4370" y="21600"/>
                </a:lnTo>
                <a:arcTo wR="675" hR="305" stAng="5400000" swAng="5400000"/>
                <a:lnTo>
                  <a:pt x="3695" y="20381"/>
                </a:lnTo>
                <a:lnTo>
                  <a:pt x="0" y="20381"/>
                </a:lnTo>
                <a:lnTo>
                  <a:pt x="2700" y="10191"/>
                </a:lnTo>
                <a:close/>
              </a:path>
              <a:path fill="none" w="21600" h="21600">
                <a:moveTo>
                  <a:pt x="6395" y="305"/>
                </a:moveTo>
                <a:arcTo wR="675" hR="305" stAng="0" swAng="5400000"/>
                <a:lnTo>
                  <a:pt x="4370" y="610"/>
                </a:lnTo>
                <a:arcTo wR="675" hR="305" stAng="16200000" swAng="-5400000"/>
                <a:arcTo wR="675" hR="305" stAng="10800000" swAng="-5400000"/>
                <a:lnTo>
                  <a:pt x="6395" y="1219"/>
                </a:lnTo>
              </a:path>
              <a:path fill="none" w="21600" h="21600">
                <a:moveTo>
                  <a:pt x="15205" y="305"/>
                </a:moveTo>
                <a:arcTo wR="675" hR="305" stAng="10800000" swAng="-5400000"/>
                <a:lnTo>
                  <a:pt x="17230" y="610"/>
                </a:lnTo>
                <a:arcTo wR="675" hR="305" stAng="16200000" swAng="5400000"/>
                <a:arcTo wR="675" hR="305" stAng="0" swAng="5400000"/>
                <a:lnTo>
                  <a:pt x="15205" y="1219"/>
                </a:lnTo>
              </a:path>
              <a:path fill="none" w="21600" h="21600">
                <a:moveTo>
                  <a:pt x="3695" y="914"/>
                </a:moveTo>
                <a:lnTo>
                  <a:pt x="3695" y="20381"/>
                </a:lnTo>
              </a:path>
              <a:path fill="none" w="21600" h="21600">
                <a:moveTo>
                  <a:pt x="17905" y="914"/>
                </a:moveTo>
                <a:lnTo>
                  <a:pt x="17905" y="20381"/>
                </a:lnTo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05080" y="914400"/>
            <a:ext cx="18702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5867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5791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母亲——最值得尊敬和热爱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8800" spc="-1" strike="noStrike">
                <a:solidFill>
                  <a:srgbClr val="ffffff"/>
                </a:solidFill>
                <a:latin typeface="Arial"/>
              </a:rPr>
              <a:t>医生用手术刀把母亲的腹部切上一个大大的口子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137160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imes New Roman"/>
              </a:rPr>
              <a:t>医生用力把母亲的腹腔撑开，以便找到胎儿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57913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生命终于来到人世，可母亲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058520" y="155520"/>
            <a:ext cx="2009160" cy="91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可爱的小生命凝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父母多少心血啊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04920" y="3733920"/>
            <a:ext cx="8534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50000">
                      <a:srgbClr val="ccecff"/>
                    </a:gs>
                    <a:gs pos="100000">
                      <a:srgbClr val="ff99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大火无情人有情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50000">
                    <a:srgbClr val="ccecff"/>
                  </a:gs>
                  <a:gs pos="100000">
                    <a:srgbClr val="ff99ff"/>
                  </a:gs>
                </a:gsLst>
                <a:lin ang="135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80880"/>
            <a:ext cx="624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一个动人的故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352440"/>
            <a:ext cx="2362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小时候爸爸妈妈给我们讲了好多好多感人的故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今天就让我们来为爸爸妈妈讲一讲我们的故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52840" y="-14400"/>
            <a:ext cx="6796080" cy="71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14600" y="152280"/>
            <a:ext cx="64771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下面请看小品《心曲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策划：伦莉斯   廖丽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           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黄穗薇   陈薇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19920" y="3200400"/>
            <a:ext cx="3124080" cy="365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781440"/>
            <a:ext cx="58672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演员：李逸君    谢淑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           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廖丽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旁白：陈薇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2:42:13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51:21Z</dcterms:modified>
  <cp:revision>1</cp:revision>
  <dc:subject>主题班会课件(分28大类): http://shop62905894.taobao.com</dc:subject>
  <dc:title>主题班会课件(分28大类): http://shop62905894.taobao.com</dc:title>
</cp:coreProperties>
</file>